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28E-1130-41C6-A8D2-1DF8E3D9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883-6337-4851-B9A6-CE9051CC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2D0-A7D5-488A-AAED-EA0433B4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BED-B4E2-4957-B905-2705A898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7F5-DF1D-4674-8893-DFEA9F83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28D-EA4D-496A-9B1F-CA23F60D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EA6-1283-4194-A7DC-716D9CD1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A56-4B42-4390-8205-E9DEAFD3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B0C-294C-477D-8CD7-C679D04D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AE3-5905-48F1-8369-82B53A8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0E5-094A-4455-AA76-BFC0EEDD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0CA-0A51-4BB9-B019-CC6D765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8AAB-AFF8-4C58-B24F-F6B7F5CAF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21:27Z</dcterms:created>
  <dc:creator> </dc:creator>
  <dc:description/>
  <dc:language>en-US</dc:language>
  <cp:lastModifiedBy> </cp:lastModifiedBy>
  <dcterms:modified xsi:type="dcterms:W3CDTF">2007-04-17T14:27:23Z</dcterms:modified>
  <cp:revision>2</cp:revision>
  <dc:subject/>
  <dc:title>mat</dc:title>
</cp:coreProperties>
</file>